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466-42FF-4141-95A8-E2B0E2A3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0C7-D0C5-450C-A617-02ACA3E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054-852F-40DF-96DE-443FDBC7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018-B9B2-4AAD-8128-ECABE340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37C-CC6A-4713-93A2-AAF48F4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354-CF49-4C13-9A43-35D85934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53C-5E40-4029-9C53-F08D340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D83-5225-4825-9EB0-70125160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6AC-3C47-4BCA-9FCD-330A511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6B9-36DE-4D31-8BB5-C0AA8D1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F6E-F51E-4D91-A1CA-46E373A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F33-9CB6-4147-8193-54A154A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92C-44B2-4509-A3C2-090FBDF55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bechop.com/watch/292321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bechop.com/watch/292301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4920"/>
            <a:ext cx="8447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me-Sex Marri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84440" y="1117440"/>
            <a:ext cx="5216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hould gay and lesbian couples be given the same rights as everyone els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Gay and Famo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960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Miguel Bose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Spanish singer and a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Truman Capote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writer and journa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Ellen DeGenere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actress and com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John Edgar Hoover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head of the FB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Elton Joh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British pop singer and compos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eonardo da Vinci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Italian painter, sculptor and archit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577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Ellen DeGene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ubechop.com/watch/29232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892840" y="2336760"/>
            <a:ext cx="3997440" cy="515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5397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6789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position 8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88320" cy="32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y 26, 2009 - Prop. 8 Uphe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ugust 2010 - Proposition 8 repeal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2011 - Prosition 8 ban lif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ebruary 7th, 2012 - Proposition 8 found to be unconstitut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2360" y="309600"/>
            <a:ext cx="96696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position 8, February 7th, 201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ubechop.com/watch/292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60560" y="396360"/>
            <a:ext cx="79120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hould gay and lesbian couples be allowed the same rights as everyone els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41680" y="1828800"/>
            <a:ext cx="50544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81400" y="1015920"/>
            <a:ext cx="53197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6280" y="6502320"/>
            <a:ext cx="52200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anks for liste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930320"/>
            <a:ext cx="584172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5689080"/>
            <a:ext cx="9769680" cy="15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o any of these photos upset you?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812880"/>
            <a:ext cx="4390920" cy="44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78440" y="1625760"/>
            <a:ext cx="4807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6 Out of 50 Stat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6 of the 50 states in the United States allow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onneticut, Massachusetts, Iowa, Maine, New Hampshire and Vermo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22360" y="3048120"/>
            <a:ext cx="7896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406440"/>
            <a:ext cx="96742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olitical Affili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8840" y="5079600"/>
            <a:ext cx="9482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publicans are against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ndependents are slightly more for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mocrats are mostly for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46240" y="1219320"/>
            <a:ext cx="40878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07440"/>
            <a:ext cx="9667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ge of Accept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2437920"/>
            <a:ext cx="977436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older generation is less accepting or is against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younger part of the population and young adults are for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98440"/>
            <a:ext cx="92631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Benefits Not Allow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" y="1930320"/>
            <a:ext cx="9572760" cy="34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ocial Security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Gift Tax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rriage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rriage Exemption to Federal E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73520" y="1219320"/>
            <a:ext cx="5010120" cy="360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19680" y="6197760"/>
            <a:ext cx="51148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 people against gay marriage believe these rights shouldn't be allowed to gay cou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320" y="401400"/>
            <a:ext cx="9582120" cy="75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Holly's 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314000"/>
            <a:ext cx="97790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Holly and Eil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1,049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nied Righ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464004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6789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gainst Gay Marri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#1 Reason - Religion bans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16280" y="2946240"/>
            <a:ext cx="632592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rofuser</cp:lastModifiedBy>
  <dcterms:modified xsi:type="dcterms:W3CDTF">2012-03-07T17:48:14Z</dcterms:modified>
  <cp:revision>1</cp:revision>
  <dc:subject/>
  <dc:title>PowerPoint Presentation</dc:title>
</cp:coreProperties>
</file>